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E96-D73E-42D2-B650-013B0C3B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71D-6F32-4F1F-B530-16CAFAFA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B4339-EA53-4E9F-9294-9B917BE4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DBDC5-45BB-4186-B79C-17424F3A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04B65-2E4D-412D-86BA-E668BDD1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ACEF9-00A4-4E31-B1B3-EEA0F673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5F2AF-B06D-430C-9409-60D8D739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03E2E-AB7E-495E-A6FB-B63EFBF1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82F48-0670-4849-8FAB-3D6EF8C4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1957B-722C-44A3-8461-3C5FE202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6B7EA-FCEA-4C33-875A-94D9C434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D31E5-30F3-4F58-A2E5-ECBDD8F7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49A-8E8D-4129-9629-8EDABF74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B83F1-68B6-4872-8F5D-9BF5F49A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00570-4432-488F-97BB-75FC49AC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99F5F-EB7A-4C2A-9AF0-AFBEC170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E9CDF-CAB1-44BD-BC7B-ABEA21F3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A92AA-54B8-4188-B931-B3C549CD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AD32C-2514-438C-B015-7A2D4B4E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B3210-145D-4855-9C29-14A10122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62676-0B73-4627-80D6-1C3AA61E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CE369-D389-44BE-AFD2-26489B0A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BB20A-5D24-415B-91C6-FD93D105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EA8-6E6A-43C4-BFD0-E960778C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C5B06-7273-45EC-A482-345CB2C0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F0A7F-49E5-4CB4-AF0C-4C120F5C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E4E6A-94D7-4F21-B04F-C6B126DA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6AA0E-6782-4628-B0EC-0B444065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38431-7DDB-4792-9428-E1A4308D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9C004-288F-42E9-A1B3-FC4ADE4A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0FB1A-3237-477F-A288-93E9983B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3108C-91C5-4421-916F-B553E73E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30162-3F88-4277-8B30-AFE7C95F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3B675-5327-42A0-8D79-72F0AFB9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B655-AC16-4F90-B827-EFFB052C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AF3AC-916B-4835-90E0-8B5C44FF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FC7C0-1C48-4361-A1DF-2D1C2BFF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1CA6D-C9C7-469B-A195-10AD3492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51057-44ED-4344-A0A1-B332DFA4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BD76E-EC0D-4C51-9C87-FEA24BEF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283FE-FF81-4360-84E3-E0404182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535A5-4CE7-4F2E-8A65-90CD2AE6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B1A89-1B9D-4903-BBC5-C054195D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02E8E-50F7-490F-9BC5-844D4877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4BD81-8383-4D43-B867-9C6C4CE9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C390-7C60-4A56-8884-AA7A98D8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56D15-B888-486F-A46A-2F8EDE5F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3B96B-CA87-42A0-81E5-DD79070A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6777B-3924-4255-B390-D4EBDE3A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C45FF-EB8D-452C-9EEB-FC9AABF7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94D7D-42D4-4616-856A-9967F518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8868A-71A2-4B30-B755-42712097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A7DE6-D8B7-4118-B1EA-31E3CFED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64BAB-8997-4817-BA57-B731E450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7C7FB-796A-4BB5-9463-4EE7AED5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43A70-2D45-4BF2-B347-3634F02E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6FF0-BD14-4F1E-B0F8-229A056B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51A9C-0578-4EB4-8D87-140AF290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1CA2C-44DF-4A05-9EB7-E9372FED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6D7F7-F66F-4F93-B2AC-32C105E1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C2C58-78EF-40F0-984E-ADF926A2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FA75B-C9B3-4A42-9595-6A39FA4C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9E2EB-65AE-40C8-B309-A9E8E857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118E2-3496-4746-80A0-35900751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D77FCD-D4AB-4E11-8DC9-E4EE7F28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C3BB44-589E-4F12-9A6A-EF4F959E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524C1C-8CD3-47FD-AAC0-0F3C6386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C7C9-1EEB-4155-A5B1-B74B3ADF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620C4-0B35-4DDB-A8A4-15058B8D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EEA60-5A8E-4F9E-86B6-1B592F76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B0471-F59E-41AA-BC6B-57DB6691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B2592-B4DE-4401-9D2C-E008A447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EEB12-B59A-4C0E-9A14-47E54658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BFCFF-85DB-444A-AE8E-5BFB32E7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434EB7-FCE2-4712-A589-90C5E872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0B2B5A-392B-45D2-9271-DBF38FF9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6B667-2F81-4613-8C09-3B75BCEC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FB1E4A-782D-4A4B-8713-B8F60DDC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D74D-D839-497F-A757-33E125C0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83C1AE-94AC-4329-ACA1-FC10643D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A78CB5-4185-4462-A63E-B55A34C3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4B2A3-EDE1-48E6-908D-120C1E63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4C8555-02E4-461F-A4E9-6BC50608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73500-DCBB-4D76-A40C-FD5C6973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44C3D-5FBB-4B35-B6B5-37D6BCD0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17DCB-6145-40CD-9A20-60D6C507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CCAC99-2E4D-4FB6-B0D7-09009845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B31F00-F6BF-40DB-8523-F9A0F01B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7F75E-8743-49DB-9E9E-048DD3DC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E188-6495-41E9-84A4-79B484D9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3DAAE1-66D2-4DB0-9319-2511EB7A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9E1C8E-5695-4465-8C5B-5CAD81B9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DE0023-E995-4876-8518-C6B9072E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DB2F2A-72C0-4833-84FD-32ADE8A2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DA60A2-3D5F-4E3E-98F3-45B8B447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AF88E-C03A-4F9E-97AA-12A5D4F4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46FFE7-4751-4E3C-AEDC-9A0C3B3B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6CB0E-6446-4187-AA8A-BE3D5A70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10D68D-1B5A-4DBE-9EC1-E64A1D22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7EE2BF-C26D-4CA4-984A-A7E3CFEB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D038-B3F2-4A76-A019-AB03F58D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931CF-DF59-4C6F-80DA-013B7661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351FCB-83E2-4B68-A24D-E53B2F7D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617869-B5B9-4178-9223-6CBA4F25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56C857-0D80-4D7D-BEDC-BA420350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30B067-6024-4AE8-ACB6-430A3993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FEE17E-BE92-4898-B281-58B82AA8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82CEF9-A527-4681-8EAB-E6BC6328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9047A7-8604-4D39-BC75-472A5C2B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FAE463-6E26-42A1-B678-D104DA7D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A47A69-9267-4F87-B588-4119B980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8E2-883D-49BE-ADB7-D522ED00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DEC6-32EB-4349-8432-54CC2641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16E1E-ED37-46D1-8111-49205940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1EB262-F09B-4842-A162-DE01F1F3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66B5F4-D6D6-4D53-AB2F-5C052921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01CD9-8893-449C-A663-5CF7E523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D2EBD-11CC-4147-8009-7A79EFEE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DE2EF6-AA47-411D-A232-5225C8DF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BD373D-1B7F-4718-A25B-5C85952A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C62F3-FDB5-4D52-AFAF-98934200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A603E9-991B-4675-9863-DC1C0EA4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1EBFE6-79F5-49E6-83D1-9C1E81F8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EC86-65C1-4845-B36A-EA123B01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3320B-3D1D-4038-9AD8-A1271055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33CC1-F4CE-409F-9FBA-BAB81475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BC875B-25D6-4CAC-864A-B14406A7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303EC8-2DBD-4145-9595-470F36E6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CF5AAB-E72E-4193-9FB3-0EA21D7B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0921DF-7595-4E72-8535-E09542AA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825AB-5417-4C89-AA21-A3B3B0FC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1E4AAE-2F15-4E97-8EC5-373B3610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407B27-E55A-4C37-B150-C30C9C1B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6FC48A-EF06-45A3-97FD-493C56C0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112E-B663-4285-A33A-74453871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47117F-2A79-4283-85AD-017A679B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666C2A-1689-4586-8687-1A8C4682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5A5F82-DC6D-4BF8-BAF3-87623742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430D7C-E0C1-4597-8163-D7F9863F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4BECF7-3068-4C91-9D3D-206B1225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4B9FCF-5884-437B-9864-317642A7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8EA0C3-083C-48CF-85E7-C310F174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F7F6C4-4ABC-4573-B9D2-33B168FA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9B49B5-F745-4599-B3A2-E6A33350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EC5FF6-FDE6-4C33-BD19-8DF13284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6963-DFAB-447D-8573-E7F576EF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E2AFB1-C4E4-4FF7-954C-7309F321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459BA8-9FA6-45BE-91C1-00A7B44B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6D4C43-BB2E-43A3-B03A-E30CC6FB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B7D8A7-A4CE-424A-8975-A7D12DC8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E332E5-75D8-4684-A5EB-C81B850E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32103F-4C2F-4295-AE0C-5D16755D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D83A38-A347-47D1-8839-FB254AA8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8D1124-E91C-4663-89D0-DDE8AA18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5AEDE4-0AD5-464D-807D-A02BA6D5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6EC17C-1CBB-4909-88A7-691938DD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CEAE-79A5-48A4-9C10-F1B71047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3B7567-AC66-4046-90B2-DBD8AB0F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A60C72-7E8B-429A-8EA7-90F43E85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D65EB5-72FC-4F5A-80CA-25FCA37A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9F6102-EAE7-497A-8D79-D6E580CE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11030A-54FA-4825-8D6B-12151176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127984-9CAD-4F73-8D6E-0AF6FD44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4F2C02-501C-4A34-96DB-2274B157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57EFED-56EE-4E42-B68D-EA3B7AA8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470D52-1C39-408F-89B9-2C3F0A75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E55139-A754-40AA-BCC1-BF2CC271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D5661-12BE-493C-9D03-BACC186D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F46023-C704-42BF-9327-3FC20253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F8FFF2-282E-4E7B-BC79-67213CFA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5C227C-4EDB-4221-A43F-FB72B82E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02ED32-68A9-47B2-98B9-DA34126A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772EFC-4A50-416B-A22C-D8E24116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81CBC4-6FF0-4678-AF51-AD295C3D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D456A4-B16F-4E98-A730-3F30A9A1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9F3D72-67DB-4D94-A39A-55030884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4B0713-9C7A-43EF-9422-9C5F9C4E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26DD22-1E86-406C-BE11-2FF80E92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6F3A5-7FDB-4C87-96DF-E095DE3F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481433-4B50-4C52-9BE0-A29E502C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18E8D0-DDFA-45C5-9402-4F91DE0A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967947-66CB-4873-9EEB-3C7D62F9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4B1500-FE0B-4AFB-B3F9-D094B804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18E438-6337-41DB-A9CE-1B930110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CE3268-1928-48D9-BD3C-7DCCFF10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5D84EB-F3BD-4A25-97A0-700A1C46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31A7B0-A0E1-4E29-B497-8D251C5F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2C5FC2-571B-483E-B673-B7AEC064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26E16D-9026-4E2F-91F5-931C2C1F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E0C0F-A16A-495F-87E8-C164E0DF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6744ED-816D-4889-A565-6C67B3F8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8C875D-8F71-4D7C-BF9A-DDD81CEB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E70ADD-0D46-4030-8A66-318A36AD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AD510C-AA67-4F1E-BD84-436B80AD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D37268-56B3-444B-B1AB-37ED8B4C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ECE173-BFAB-4E8B-9239-6D37E154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A1E6CD-73CF-42FD-822F-85920758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D127D2-05DC-435B-A108-ED1CEB37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25059E-1F96-4488-B0EC-8DDD6CC3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4C5366-EB8A-4154-8E4A-70072342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CEC5F-9112-4D13-A861-09380C6B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EC4F35-120B-41E6-BB82-BCECF5E8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07B323-0122-4BBE-A15A-3D3A6A04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A4819F-9DEE-4C46-BC52-F0F5DF65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0525CF-8E7F-4991-A365-F1EFBDED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975BCB-713C-4C94-874D-2BAE9580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0649CF-2F02-4952-99F7-28D3C4E0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0735A8-865F-4271-B15B-5C73FB38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E00FA1-2ED6-4E08-B011-5CC095D8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233419-7109-492D-96FE-5DB24C1B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A95CD9-5C2D-4B5C-8A13-5157B501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4EAB6-78D1-4AF4-963E-0F10BF0D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BB3664-58E1-4EBA-8B98-DE2A68DE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9F56BC-AD8C-4144-90A1-FEDA0574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3584CD-6D02-48B1-84BC-7ED0FABB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09ECBD-92B5-4B40-8E62-FF7F2413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D0CE17-24AA-48E2-BA37-20F40F5B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77FE17-ACFE-4DBD-9ED6-FC138231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8C7872-A56E-4EBF-80E0-7C341850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46AB65-CEA6-450A-A538-485F092E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638E82-CA26-427E-9A1E-AB013DA8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7315BA-1443-453A-A73E-05961330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227-70B9-4459-866A-FD043674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5F7C-B498-495E-BC86-461B028F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ABF710-D711-4CDC-96FF-C2FC6F20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B7E70B-8BB0-45B0-965E-DA0C3360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E0DFAE-3282-4FE6-AC9A-702BA89C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9AECB0-EDF1-47CD-A06B-5439875B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10CF39-0FAA-4548-A7A3-FAAEFE19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A0BBA9-7B8B-4EC9-8A6E-C689C0B9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543345-668C-40E7-A485-D29A1319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3EBFC9-45DB-41FC-9B8B-D936B934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BADAB8-4D78-4F6F-A3F8-1D6915DA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E125FC-38B2-4DF1-BFEA-08980763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4F1B4-30C1-4C7A-992B-4D623079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97F26F-F521-4BDC-9F95-2D2FA234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8FB1A6-9ACF-4F47-8B3C-6397E650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65C331-9783-4DDB-B7BA-A14BD772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0A9990-DC37-43CA-A46E-8E6303C1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68F32E-75B6-4A7A-B01C-C1E9F623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08D9B5-DFDD-4E22-A783-4450BAC0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3942F5-FE82-4B27-BA11-A97F897E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7F3262-E9C0-48DC-9157-DD3DF1FB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5956F1-195B-43B5-96C1-552AE147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3F66EF-26D5-410D-B81F-D89DE2E8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ACABC-C090-4B69-8814-DDC134A9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8D1060-C975-4CAF-9FFC-A57F9998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C4ECEB-4604-46BD-BD8D-B2F19E2B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F58A32-366F-4FB3-B31F-2FFA3917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554ADE-9A4E-434B-81B0-65B5BAE3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BB819E-3CB9-4B98-A78E-8EF645B3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AD3ED6-6CE8-43C5-97DD-31B68AC7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D62FF2-FD14-43DB-8E44-6AB4A1EB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FEA4C6-EB04-4A66-8401-49635363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651B57-BF65-4B84-9C19-38B6E302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725A60-1544-488A-BE27-938C0D07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7064-1B27-414E-97DC-B6BAAAC5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C948BF-DFD4-4BEE-9F74-3AAD5FA2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802839-A2F7-4E32-AC67-12AB25EC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E653A7-4FAE-4C8C-A4A3-CE8C1B96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C13AD3-00E7-48F4-93D3-63ED607A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D28EDE-61FF-40DE-BC39-AE91642B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50F073-1112-4096-B1CC-3CF66E42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644DAA-F9AB-47F4-AA1D-9C7F1210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FFC6EA-040E-4871-B02A-678D9819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B74BB6-DC04-45B7-A8AF-9C2E383B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90B86B-D081-4550-AFA4-4F77ACB4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38000-293F-4E75-BD64-758FF6A6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B1549B-D69D-44DD-ADCD-CFDB963E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A21647-5393-42E8-975C-434D14F2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77EAA8-05F1-4F16-AECB-6E38F5E9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40F800-2457-4048-BEC7-20AC6ADC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F900D6-2C9C-475E-B5AC-0B95F8ED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A1F718-44F9-4CB2-B130-1627A95E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258E52-8D60-4E8C-A2CC-BDA71E9E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901670-7D69-4364-878E-55243BF8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35555D-3693-47E8-BC49-FAB0CD41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18400E-072D-45DB-81B8-C6FCB4DB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D5D5F-FBD2-4A84-B0A1-4AEF01D4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8092A4-6588-4C40-8716-0C7B65F4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E2DDB7-A454-4456-B90F-66374E6E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607045-262A-4386-A394-19FF2BC2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85574C-1269-4FF2-8960-7655A6A8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521FAE-2A50-4ABE-884D-3A9F189A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650623-A293-4B9D-AA43-005152B9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48A0EB-8DC4-487A-AAC9-CE9BE73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AF32AE-767A-45AA-A381-B553B708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6F0E26-A3E9-4766-944E-6E246813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9F1FCE-9BB0-46E4-B505-3D33CCAD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B9737-7C42-491B-914A-A4788DF4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CDB0AD-AE30-4A75-B0A7-20F9188B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F70BCA-9C71-4748-AD8C-922982B9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BA6780-0E4D-4AA4-8697-A4076F78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935B85-6B04-435A-A90E-6F4AA16C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F1013A-A316-4BB8-BB04-71F28D0B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2B7731-3D2F-4489-8BCB-D32339CD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9A1FC5-401B-4712-8EF8-09661094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F20FEE-3367-47C7-B961-A6074D32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AC735C-E4D6-460F-B56F-0E1D9F40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2750ED-3084-4E19-821E-02966759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F5FFA-038C-4235-894D-F784FB65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1810D3-A8C4-477C-98DB-9146047A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94E44F-33D0-40E3-861A-F0F3683A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C73BCB-5835-48BC-9602-0C239B69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D4B48-7020-4C31-AB5F-C4E95608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5DD7A-B8B4-4F93-A766-2CD9388A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DDC-CBE5-4D89-B682-3BD5A7FC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C2906-123E-4045-8A6A-113AB760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91CFA-4399-4115-8144-1D1D174C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580E1-D216-4AA0-802D-E1D0A710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7BB19-CBDD-42FE-963C-3EE984F4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980A5-F6E5-4A5A-854C-4876C09D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2F22D-7C7C-4687-B67A-D5885190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076E4-3FBE-4298-B32B-098C0BA5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F3C2B-79AB-4F93-850F-99A3E4F7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71E99-3696-4688-AB24-35251B00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9BE36-071D-45E3-9FBE-54C71231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B55-DEAB-42D8-BA40-A8079E91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6DF95-BA02-4606-A095-45CDF26C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56D7B-0ECE-4AD5-9FAB-C3CEFEA0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7ABB1-67D8-4D30-A9D9-A4E85580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8A62C-2329-49AD-ADD6-4120C8A5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922EB-E93A-494A-8BF4-BD89A51D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80A8C-39BE-42EC-8A46-36494C53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7382D-EA04-4CBB-B8A0-6FEEEC36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5FD9D-4C5F-4885-9BEE-E0EC4CA0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3299A-FFC4-4766-A7B8-9644F1AB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77F45-EA47-40CA-92A5-B68489AB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02E-8676-4C85-B0A6-8B447F7E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42A14-8086-42D5-8E1E-E02C3A62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9828A-0B76-49BE-868D-5C615FC5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0DFEE-4642-47C8-A9C7-90BCF647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AADA3-DE72-48CE-8FA0-1877389F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89C3C-1787-4D51-9EDA-9649A2D5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2F5CF-C452-43BC-8BFF-037F286E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E60B6-0FF0-40BC-B4C3-2AB2471F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7041E-8997-4483-AD52-4318DAD4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FBE3F-C0E2-4C12-A30C-0BFD86B3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33B17-F630-4FF2-889D-DF0C7FBF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DCF-E066-40F6-9776-746CB8CE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93BAD-EFA3-4710-971D-6153168C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83FFA-E88E-4873-B1CF-B74CC3B4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248CE-48A6-4346-9CCA-81592AA4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1BE97-D832-43AF-9842-2EB6FF71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D6BDE-1E40-4EB2-B317-78AC9FB3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6D6B6-7482-45A5-9517-E82FD69C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84E70-5408-4961-AAD7-FA7347A9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AEECF-1E35-4823-9D20-A25B3F11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23388-6E10-44CE-AFE0-0E8CD913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61632-BB0E-4CC8-9E45-9918A6B4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40E-EBA5-4D50-9372-795C2F56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9F7B6-F6C4-4B8C-B1FA-1D8D93BA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9AC1A-6BA4-4E84-AD51-669D76E7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850F3-5294-4F85-AC67-F5A09E82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287B2-D151-4E33-926B-700258C2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99D24-0D3D-4810-88FE-30A2E924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15A80-A520-4ED9-9163-184FA9B4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05C2B-406F-4977-85BE-B7DA6349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7DEA9-0EF4-4EFD-B56C-5D05E53E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134E7-BD76-4DD7-B20C-B563BBBE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61D5C-32D5-41DC-AFA8-B85B731B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DD2-5816-48E7-A159-1B1BD80E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C485A-908B-4EB2-BB52-DF5E08A1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FB5E6-5270-427A-9336-82DCF18D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E9C5B-143E-4C24-9430-0B15C0D5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8F428-F059-4A41-AF79-5BB0C0A3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4426F-8CBC-48B4-B35B-45FA3C91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D6CFE-1EC4-407A-87DD-5E2E4AFB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2E361-0F34-4070-AE30-88DE7A36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AAFE3-047A-432B-83EC-9AC2B9DA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6FD5B-68F5-46F3-99AC-2DB63E97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4554F-D213-4BA6-BE41-FC92199A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05B2-C514-4AEF-89EE-6FBE888A61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F75F-D1E9-493C-B2B1-38BE47B28A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D9B8-A01F-489B-A5CE-B828B26ABF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DBB4-3AD3-4134-BA15-10CD31DBD7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B092-CA7F-42D6-B30B-D923388EDC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8CDB-57F9-46E9-AE22-765F14A08A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B618-0747-4E8B-8343-5A70A4A891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FC64-45AF-4956-AED1-ED5F87AF6C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8310-0CB9-4A5D-99A6-8EDC89E477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6DC7-5FA3-48D9-9666-B8C25D6E0B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BFB3-7F91-4E86-BD9B-32A451745F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2DA3-4DD4-4F7A-B061-F12A48D072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1DA7-A054-4866-93FA-AE6B9006D0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6DDB-FDF8-4E31-9A1A-68DC295B57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E307-22D1-49B4-84B6-152AD1E680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A084-E971-447E-8BD4-2E0E65AE37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B31B-27FB-43DF-95CF-A76234D53D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E7CD-00F8-48F7-99C8-249EE686E6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6286-6B40-4A79-9847-CE025EF204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3421-0F5C-4B99-A166-87A868CEC8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77A8-9928-4D56-ADDC-67AD9941EF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3274-D3D5-4194-86BE-319563DB4B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80B8-6039-480C-8B0E-534EA6E686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2528-6990-4368-B579-AF1575543C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01BD-798F-49FD-B872-0498618001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BF68-C301-4EFD-A5DB-3C78B81C32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69C4-1102-4C07-BC12-3EA8A0688E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6B21-EEFF-41DB-8995-97516F090A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BA9A-CD92-4582-8327-45F145F388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3B21-F0C0-416B-8F7A-F09B6F3E24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7C98-6A58-443E-AF80-3B9CE1C19B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E3E6-51E6-4605-B838-2AB9DBC987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602C-BD5C-404C-AEF9-325E16206B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A3C7-2910-4A26-9017-8514063B73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BADA-6271-4551-86D2-EDDC8A228B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AA7F-29B3-4125-BB35-8008C2739A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2F93-C408-478B-ACAD-A3DB3B7281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EFFC-60DB-421A-B00C-61B4E6625B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AC8A-B679-4AF8-B2C5-FEC0CD6E82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9740-9284-4C72-94E2-6FE3DC188F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B0F6-1927-4639-86B3-A46B4C1812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6AD0-930A-40E8-87B5-2020CDE73D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FA6E-BA1F-4E74-B3B6-CB274C2D26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510E-266A-4C30-B3D9-0549B0C328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942A-25E7-4CFF-958D-39B0629019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127F-EA3E-4888-A582-163F29BABB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440B-0187-4B1A-AE35-398E17F08F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1B06-9919-4F22-9261-7F5094AAEC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A315-0AA4-4CB4-A3BB-1ACAC5C2C2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CC86-A4DD-4A2A-816D-76DDA914B3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57320" y="2205000"/>
            <a:ext cx="8829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31073" descr=""/>
          <p:cNvPicPr/>
          <p:nvPr/>
        </p:nvPicPr>
        <p:blipFill>
          <a:blip r:embed="rId1"/>
          <a:stretch/>
        </p:blipFill>
        <p:spPr>
          <a:xfrm>
            <a:off x="162000" y="1281240"/>
            <a:ext cx="8820000" cy="429552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31074"/>
          <p:cNvSpPr/>
          <p:nvPr/>
        </p:nvSpPr>
        <p:spPr>
          <a:xfrm>
            <a:off x="8317080" y="3241800"/>
            <a:ext cx="3585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32097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44040" cy="1371600"/>
          </a:xfrm>
          <a:prstGeom prst="rect">
            <a:avLst/>
          </a:prstGeom>
          <a:ln w="0">
            <a:noFill/>
          </a:ln>
        </p:spPr>
      </p:pic>
      <p:pic>
        <p:nvPicPr>
          <p:cNvPr id="1454" name="图片 132098" descr=""/>
          <p:cNvPicPr/>
          <p:nvPr/>
        </p:nvPicPr>
        <p:blipFill>
          <a:blip r:embed="rId2"/>
          <a:stretch/>
        </p:blipFill>
        <p:spPr>
          <a:xfrm>
            <a:off x="673200" y="2852640"/>
            <a:ext cx="8219880" cy="196236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32099"/>
          <p:cNvSpPr/>
          <p:nvPr/>
        </p:nvSpPr>
        <p:spPr>
          <a:xfrm>
            <a:off x="8259840" y="2965320"/>
            <a:ext cx="3585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33121" descr=""/>
          <p:cNvPicPr/>
          <p:nvPr/>
        </p:nvPicPr>
        <p:blipFill>
          <a:blip r:embed="rId1"/>
          <a:stretch/>
        </p:blipFill>
        <p:spPr>
          <a:xfrm>
            <a:off x="228600" y="1538280"/>
            <a:ext cx="8686800" cy="378144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33122"/>
          <p:cNvSpPr/>
          <p:nvPr/>
        </p:nvSpPr>
        <p:spPr>
          <a:xfrm>
            <a:off x="8326440" y="2089080"/>
            <a:ext cx="3589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34146" descr=""/>
          <p:cNvPicPr/>
          <p:nvPr/>
        </p:nvPicPr>
        <p:blipFill>
          <a:blip r:embed="rId1"/>
          <a:stretch/>
        </p:blipFill>
        <p:spPr>
          <a:xfrm>
            <a:off x="243000" y="1947960"/>
            <a:ext cx="8658000" cy="296208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34147"/>
          <p:cNvSpPr/>
          <p:nvPr/>
        </p:nvSpPr>
        <p:spPr>
          <a:xfrm>
            <a:off x="5326200" y="2070000"/>
            <a:ext cx="3585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121857" descr=""/>
          <p:cNvPicPr/>
          <p:nvPr/>
        </p:nvPicPr>
        <p:blipFill>
          <a:blip r:embed="rId1"/>
          <a:stretch/>
        </p:blipFill>
        <p:spPr>
          <a:xfrm>
            <a:off x="214200" y="1766880"/>
            <a:ext cx="8715600" cy="332424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21858"/>
          <p:cNvSpPr/>
          <p:nvPr/>
        </p:nvSpPr>
        <p:spPr>
          <a:xfrm>
            <a:off x="8317080" y="3241800"/>
            <a:ext cx="3585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20833" descr=""/>
          <p:cNvPicPr/>
          <p:nvPr/>
        </p:nvPicPr>
        <p:blipFill>
          <a:blip r:embed="rId1"/>
          <a:stretch/>
        </p:blipFill>
        <p:spPr>
          <a:xfrm>
            <a:off x="185760" y="843120"/>
            <a:ext cx="8772480" cy="5171760"/>
          </a:xfrm>
          <a:prstGeom prst="rect">
            <a:avLst/>
          </a:prstGeom>
          <a:ln w="0">
            <a:noFill/>
          </a:ln>
        </p:spPr>
      </p:pic>
      <p:sp>
        <p:nvSpPr>
          <p:cNvPr id="1463" name="矩形 120834"/>
          <p:cNvSpPr/>
          <p:nvPr/>
        </p:nvSpPr>
        <p:spPr>
          <a:xfrm>
            <a:off x="8317080" y="3241800"/>
            <a:ext cx="3585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119809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829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8785" descr=""/>
          <p:cNvPicPr/>
          <p:nvPr/>
        </p:nvPicPr>
        <p:blipFill>
          <a:blip r:embed="rId1"/>
          <a:stretch/>
        </p:blipFill>
        <p:spPr>
          <a:xfrm>
            <a:off x="399960" y="1047600"/>
            <a:ext cx="8344080" cy="47628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8786"/>
          <p:cNvSpPr/>
          <p:nvPr/>
        </p:nvSpPr>
        <p:spPr>
          <a:xfrm>
            <a:off x="4602240" y="1146240"/>
            <a:ext cx="11016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8787"/>
          <p:cNvSpPr/>
          <p:nvPr/>
        </p:nvSpPr>
        <p:spPr>
          <a:xfrm>
            <a:off x="2693880" y="1600200"/>
            <a:ext cx="59882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8788"/>
          <p:cNvSpPr/>
          <p:nvPr/>
        </p:nvSpPr>
        <p:spPr>
          <a:xfrm>
            <a:off x="933480" y="2085840"/>
            <a:ext cx="76928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8789"/>
          <p:cNvSpPr/>
          <p:nvPr/>
        </p:nvSpPr>
        <p:spPr>
          <a:xfrm>
            <a:off x="923760" y="2543040"/>
            <a:ext cx="77216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8790"/>
          <p:cNvSpPr/>
          <p:nvPr/>
        </p:nvSpPr>
        <p:spPr>
          <a:xfrm>
            <a:off x="895320" y="3029040"/>
            <a:ext cx="779796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8791"/>
          <p:cNvSpPr/>
          <p:nvPr/>
        </p:nvSpPr>
        <p:spPr>
          <a:xfrm>
            <a:off x="895320" y="3505320"/>
            <a:ext cx="779796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8792"/>
          <p:cNvSpPr/>
          <p:nvPr/>
        </p:nvSpPr>
        <p:spPr>
          <a:xfrm>
            <a:off x="866880" y="3981600"/>
            <a:ext cx="7797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8793"/>
          <p:cNvSpPr/>
          <p:nvPr/>
        </p:nvSpPr>
        <p:spPr>
          <a:xfrm>
            <a:off x="885960" y="4448160"/>
            <a:ext cx="7797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8794"/>
          <p:cNvSpPr/>
          <p:nvPr/>
        </p:nvSpPr>
        <p:spPr>
          <a:xfrm>
            <a:off x="905040" y="4915080"/>
            <a:ext cx="7797600" cy="3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8795"/>
          <p:cNvSpPr/>
          <p:nvPr/>
        </p:nvSpPr>
        <p:spPr>
          <a:xfrm>
            <a:off x="895320" y="5391000"/>
            <a:ext cx="11113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117761" descr=""/>
          <p:cNvPicPr/>
          <p:nvPr/>
        </p:nvPicPr>
        <p:blipFill>
          <a:blip r:embed="rId1"/>
          <a:stretch/>
        </p:blipFill>
        <p:spPr>
          <a:xfrm>
            <a:off x="414360" y="1300320"/>
            <a:ext cx="8315280" cy="4257360"/>
          </a:xfrm>
          <a:prstGeom prst="rect">
            <a:avLst/>
          </a:prstGeom>
          <a:ln w="0">
            <a:noFill/>
          </a:ln>
        </p:spPr>
      </p:pic>
      <p:sp>
        <p:nvSpPr>
          <p:cNvPr id="1477" name="矩形 117762"/>
          <p:cNvSpPr/>
          <p:nvPr/>
        </p:nvSpPr>
        <p:spPr>
          <a:xfrm>
            <a:off x="2516040" y="2346480"/>
            <a:ext cx="61693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7763"/>
          <p:cNvSpPr/>
          <p:nvPr/>
        </p:nvSpPr>
        <p:spPr>
          <a:xfrm>
            <a:off x="896760" y="2822400"/>
            <a:ext cx="11019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7764"/>
          <p:cNvSpPr/>
          <p:nvPr/>
        </p:nvSpPr>
        <p:spPr>
          <a:xfrm>
            <a:off x="1887480" y="3298680"/>
            <a:ext cx="68263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7765"/>
          <p:cNvSpPr/>
          <p:nvPr/>
        </p:nvSpPr>
        <p:spPr>
          <a:xfrm>
            <a:off x="887400" y="3774960"/>
            <a:ext cx="78264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7766"/>
          <p:cNvSpPr/>
          <p:nvPr/>
        </p:nvSpPr>
        <p:spPr>
          <a:xfrm>
            <a:off x="906480" y="4251240"/>
            <a:ext cx="78264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7767"/>
          <p:cNvSpPr/>
          <p:nvPr/>
        </p:nvSpPr>
        <p:spPr>
          <a:xfrm>
            <a:off x="878040" y="4718160"/>
            <a:ext cx="78264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116737" descr=""/>
          <p:cNvPicPr/>
          <p:nvPr/>
        </p:nvPicPr>
        <p:blipFill>
          <a:blip r:embed="rId1"/>
          <a:stretch/>
        </p:blipFill>
        <p:spPr>
          <a:xfrm>
            <a:off x="243000" y="1338120"/>
            <a:ext cx="865800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157320" y="1333440"/>
            <a:ext cx="8829360" cy="419112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8317080" y="3241800"/>
            <a:ext cx="3585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115713" descr=""/>
          <p:cNvPicPr/>
          <p:nvPr/>
        </p:nvPicPr>
        <p:blipFill>
          <a:blip r:embed="rId1"/>
          <a:stretch/>
        </p:blipFill>
        <p:spPr>
          <a:xfrm>
            <a:off x="442800" y="828720"/>
            <a:ext cx="8258400" cy="5200560"/>
          </a:xfrm>
          <a:prstGeom prst="rect">
            <a:avLst/>
          </a:prstGeom>
          <a:ln w="0">
            <a:noFill/>
          </a:ln>
        </p:spPr>
      </p:pic>
      <p:sp>
        <p:nvSpPr>
          <p:cNvPr id="1485" name="矩形 115714"/>
          <p:cNvSpPr/>
          <p:nvPr/>
        </p:nvSpPr>
        <p:spPr>
          <a:xfrm>
            <a:off x="858960" y="1860480"/>
            <a:ext cx="235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5715"/>
          <p:cNvSpPr/>
          <p:nvPr/>
        </p:nvSpPr>
        <p:spPr>
          <a:xfrm>
            <a:off x="849240" y="4222800"/>
            <a:ext cx="78361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5716"/>
          <p:cNvSpPr/>
          <p:nvPr/>
        </p:nvSpPr>
        <p:spPr>
          <a:xfrm>
            <a:off x="868320" y="4699080"/>
            <a:ext cx="78361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5717"/>
          <p:cNvSpPr/>
          <p:nvPr/>
        </p:nvSpPr>
        <p:spPr>
          <a:xfrm>
            <a:off x="868320" y="5194440"/>
            <a:ext cx="78361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5718"/>
          <p:cNvSpPr/>
          <p:nvPr/>
        </p:nvSpPr>
        <p:spPr>
          <a:xfrm>
            <a:off x="858960" y="5651640"/>
            <a:ext cx="78357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14689" descr=""/>
          <p:cNvPicPr/>
          <p:nvPr/>
        </p:nvPicPr>
        <p:blipFill>
          <a:blip r:embed="rId1"/>
          <a:stretch/>
        </p:blipFill>
        <p:spPr>
          <a:xfrm>
            <a:off x="200160" y="1133640"/>
            <a:ext cx="8743680" cy="4590720"/>
          </a:xfrm>
          <a:prstGeom prst="rect">
            <a:avLst/>
          </a:prstGeom>
          <a:ln w="0">
            <a:noFill/>
          </a:ln>
        </p:spPr>
      </p:pic>
      <p:sp>
        <p:nvSpPr>
          <p:cNvPr id="1491" name="矩形 114690"/>
          <p:cNvSpPr/>
          <p:nvPr/>
        </p:nvSpPr>
        <p:spPr>
          <a:xfrm>
            <a:off x="1144440" y="5280120"/>
            <a:ext cx="45784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113665" descr=""/>
          <p:cNvPicPr/>
          <p:nvPr/>
        </p:nvPicPr>
        <p:blipFill>
          <a:blip r:embed="rId1"/>
          <a:stretch/>
        </p:blipFill>
        <p:spPr>
          <a:xfrm>
            <a:off x="361800" y="1871640"/>
            <a:ext cx="8420400" cy="3114720"/>
          </a:xfrm>
          <a:prstGeom prst="rect">
            <a:avLst/>
          </a:prstGeom>
          <a:ln w="0">
            <a:noFill/>
          </a:ln>
        </p:spPr>
      </p:pic>
      <p:sp>
        <p:nvSpPr>
          <p:cNvPr id="1493" name="矩形 113666"/>
          <p:cNvSpPr/>
          <p:nvPr/>
        </p:nvSpPr>
        <p:spPr>
          <a:xfrm>
            <a:off x="887400" y="2860560"/>
            <a:ext cx="784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3667"/>
          <p:cNvSpPr/>
          <p:nvPr/>
        </p:nvSpPr>
        <p:spPr>
          <a:xfrm>
            <a:off x="887400" y="3298680"/>
            <a:ext cx="784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3668"/>
          <p:cNvSpPr/>
          <p:nvPr/>
        </p:nvSpPr>
        <p:spPr>
          <a:xfrm>
            <a:off x="887400" y="3736800"/>
            <a:ext cx="784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3669"/>
          <p:cNvSpPr/>
          <p:nvPr/>
        </p:nvSpPr>
        <p:spPr>
          <a:xfrm>
            <a:off x="915840" y="4184640"/>
            <a:ext cx="784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3670"/>
          <p:cNvSpPr/>
          <p:nvPr/>
        </p:nvSpPr>
        <p:spPr>
          <a:xfrm>
            <a:off x="896760" y="4622760"/>
            <a:ext cx="784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图片 112641" descr=""/>
          <p:cNvPicPr/>
          <p:nvPr/>
        </p:nvPicPr>
        <p:blipFill>
          <a:blip r:embed="rId1"/>
          <a:stretch/>
        </p:blipFill>
        <p:spPr>
          <a:xfrm>
            <a:off x="176040" y="895320"/>
            <a:ext cx="87919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图片 111617" descr=""/>
          <p:cNvPicPr/>
          <p:nvPr/>
        </p:nvPicPr>
        <p:blipFill>
          <a:blip r:embed="rId1"/>
          <a:stretch/>
        </p:blipFill>
        <p:spPr>
          <a:xfrm>
            <a:off x="457200" y="1438200"/>
            <a:ext cx="8229600" cy="3981600"/>
          </a:xfrm>
          <a:prstGeom prst="rect">
            <a:avLst/>
          </a:prstGeom>
          <a:ln w="0">
            <a:noFill/>
          </a:ln>
        </p:spPr>
      </p:pic>
      <p:sp>
        <p:nvSpPr>
          <p:cNvPr id="1500" name="矩形 111618"/>
          <p:cNvSpPr/>
          <p:nvPr/>
        </p:nvSpPr>
        <p:spPr>
          <a:xfrm>
            <a:off x="858960" y="4622760"/>
            <a:ext cx="784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11619"/>
          <p:cNvSpPr/>
          <p:nvPr/>
        </p:nvSpPr>
        <p:spPr>
          <a:xfrm>
            <a:off x="830160" y="5060880"/>
            <a:ext cx="11019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图片 110593" descr=""/>
          <p:cNvPicPr/>
          <p:nvPr/>
        </p:nvPicPr>
        <p:blipFill>
          <a:blip r:embed="rId1"/>
          <a:stretch/>
        </p:blipFill>
        <p:spPr>
          <a:xfrm>
            <a:off x="390600" y="1414440"/>
            <a:ext cx="8362800" cy="4029120"/>
          </a:xfrm>
          <a:prstGeom prst="rect">
            <a:avLst/>
          </a:prstGeom>
          <a:ln w="0">
            <a:noFill/>
          </a:ln>
        </p:spPr>
      </p:pic>
      <p:sp>
        <p:nvSpPr>
          <p:cNvPr id="1503" name="矩形 110594"/>
          <p:cNvSpPr/>
          <p:nvPr/>
        </p:nvSpPr>
        <p:spPr>
          <a:xfrm>
            <a:off x="868320" y="2422440"/>
            <a:ext cx="78361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10595"/>
          <p:cNvSpPr/>
          <p:nvPr/>
        </p:nvSpPr>
        <p:spPr>
          <a:xfrm>
            <a:off x="878040" y="2851200"/>
            <a:ext cx="78357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10596"/>
          <p:cNvSpPr/>
          <p:nvPr/>
        </p:nvSpPr>
        <p:spPr>
          <a:xfrm>
            <a:off x="878040" y="3279600"/>
            <a:ext cx="78357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10597"/>
          <p:cNvSpPr/>
          <p:nvPr/>
        </p:nvSpPr>
        <p:spPr>
          <a:xfrm>
            <a:off x="878040" y="3727440"/>
            <a:ext cx="78357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10598"/>
          <p:cNvSpPr/>
          <p:nvPr/>
        </p:nvSpPr>
        <p:spPr>
          <a:xfrm>
            <a:off x="839880" y="4165560"/>
            <a:ext cx="78357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10599"/>
          <p:cNvSpPr/>
          <p:nvPr/>
        </p:nvSpPr>
        <p:spPr>
          <a:xfrm>
            <a:off x="906480" y="4603680"/>
            <a:ext cx="78357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10600"/>
          <p:cNvSpPr/>
          <p:nvPr/>
        </p:nvSpPr>
        <p:spPr>
          <a:xfrm>
            <a:off x="906480" y="5041800"/>
            <a:ext cx="78357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图片 109569" descr=""/>
          <p:cNvPicPr/>
          <p:nvPr/>
        </p:nvPicPr>
        <p:blipFill>
          <a:blip r:embed="rId1"/>
          <a:stretch/>
        </p:blipFill>
        <p:spPr>
          <a:xfrm>
            <a:off x="171360" y="828720"/>
            <a:ext cx="8801280" cy="5200560"/>
          </a:xfrm>
          <a:prstGeom prst="rect">
            <a:avLst/>
          </a:prstGeom>
          <a:ln w="0">
            <a:noFill/>
          </a:ln>
        </p:spPr>
      </p:pic>
      <p:sp>
        <p:nvSpPr>
          <p:cNvPr id="1511" name="矩形 109570"/>
          <p:cNvSpPr/>
          <p:nvPr/>
        </p:nvSpPr>
        <p:spPr>
          <a:xfrm>
            <a:off x="1154160" y="4813200"/>
            <a:ext cx="77976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09571"/>
          <p:cNvSpPr/>
          <p:nvPr/>
        </p:nvSpPr>
        <p:spPr>
          <a:xfrm>
            <a:off x="1163520" y="5251320"/>
            <a:ext cx="77979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09572"/>
          <p:cNvSpPr/>
          <p:nvPr/>
        </p:nvSpPr>
        <p:spPr>
          <a:xfrm>
            <a:off x="1154160" y="5680080"/>
            <a:ext cx="77976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图片 108545" descr=""/>
          <p:cNvPicPr/>
          <p:nvPr/>
        </p:nvPicPr>
        <p:blipFill>
          <a:blip r:embed="rId1"/>
          <a:stretch/>
        </p:blipFill>
        <p:spPr>
          <a:xfrm>
            <a:off x="399960" y="981000"/>
            <a:ext cx="8344080" cy="4896000"/>
          </a:xfrm>
          <a:prstGeom prst="rect">
            <a:avLst/>
          </a:prstGeom>
          <a:ln w="0">
            <a:noFill/>
          </a:ln>
        </p:spPr>
      </p:pic>
      <p:sp>
        <p:nvSpPr>
          <p:cNvPr id="1515" name="矩形 108546"/>
          <p:cNvSpPr/>
          <p:nvPr/>
        </p:nvSpPr>
        <p:spPr>
          <a:xfrm>
            <a:off x="954000" y="4537080"/>
            <a:ext cx="78361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矩形 108547"/>
          <p:cNvSpPr/>
          <p:nvPr/>
        </p:nvSpPr>
        <p:spPr>
          <a:xfrm>
            <a:off x="934920" y="4956120"/>
            <a:ext cx="78361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108548"/>
          <p:cNvSpPr/>
          <p:nvPr/>
        </p:nvSpPr>
        <p:spPr>
          <a:xfrm>
            <a:off x="944640" y="5403960"/>
            <a:ext cx="78357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3905" descr=""/>
          <p:cNvPicPr/>
          <p:nvPr/>
        </p:nvPicPr>
        <p:blipFill>
          <a:blip r:embed="rId1"/>
          <a:stretch/>
        </p:blipFill>
        <p:spPr>
          <a:xfrm>
            <a:off x="162000" y="1600200"/>
            <a:ext cx="8820000" cy="365760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3906"/>
          <p:cNvSpPr/>
          <p:nvPr/>
        </p:nvSpPr>
        <p:spPr>
          <a:xfrm>
            <a:off x="8317080" y="3060720"/>
            <a:ext cx="3585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122881" descr=""/>
          <p:cNvPicPr/>
          <p:nvPr/>
        </p:nvPicPr>
        <p:blipFill>
          <a:blip r:embed="rId1"/>
          <a:stretch/>
        </p:blipFill>
        <p:spPr>
          <a:xfrm>
            <a:off x="119160" y="1719360"/>
            <a:ext cx="8905680" cy="341928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2882"/>
          <p:cNvSpPr/>
          <p:nvPr/>
        </p:nvSpPr>
        <p:spPr>
          <a:xfrm>
            <a:off x="5726160" y="2317680"/>
            <a:ext cx="3585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5953" descr=""/>
          <p:cNvPicPr/>
          <p:nvPr/>
        </p:nvPicPr>
        <p:blipFill>
          <a:blip r:embed="rId1"/>
          <a:stretch/>
        </p:blipFill>
        <p:spPr>
          <a:xfrm>
            <a:off x="204840" y="1762200"/>
            <a:ext cx="8734320" cy="3333600"/>
          </a:xfrm>
          <a:prstGeom prst="rect">
            <a:avLst/>
          </a:prstGeom>
          <a:ln w="0">
            <a:noFill/>
          </a:ln>
        </p:spPr>
      </p:pic>
      <p:sp>
        <p:nvSpPr>
          <p:cNvPr id="1440" name="矩形 125954"/>
          <p:cNvSpPr/>
          <p:nvPr/>
        </p:nvSpPr>
        <p:spPr>
          <a:xfrm>
            <a:off x="8317080" y="3241800"/>
            <a:ext cx="3585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126977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72480" cy="876240"/>
          </a:xfrm>
          <a:prstGeom prst="rect">
            <a:avLst/>
          </a:prstGeom>
          <a:ln w="0">
            <a:noFill/>
          </a:ln>
        </p:spPr>
      </p:pic>
      <p:pic>
        <p:nvPicPr>
          <p:cNvPr id="1442" name="图片 126978" descr=""/>
          <p:cNvPicPr/>
          <p:nvPr/>
        </p:nvPicPr>
        <p:blipFill>
          <a:blip r:embed="rId2"/>
          <a:stretch/>
        </p:blipFill>
        <p:spPr>
          <a:xfrm>
            <a:off x="644400" y="2357280"/>
            <a:ext cx="8391600" cy="2295720"/>
          </a:xfrm>
          <a:prstGeom prst="rect">
            <a:avLst/>
          </a:prstGeom>
          <a:ln w="0">
            <a:noFill/>
          </a:ln>
        </p:spPr>
      </p:pic>
      <p:sp>
        <p:nvSpPr>
          <p:cNvPr id="1443" name="矩形 126979"/>
          <p:cNvSpPr/>
          <p:nvPr/>
        </p:nvSpPr>
        <p:spPr>
          <a:xfrm>
            <a:off x="8421840" y="2403360"/>
            <a:ext cx="3585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8001" descr=""/>
          <p:cNvPicPr/>
          <p:nvPr/>
        </p:nvPicPr>
        <p:blipFill>
          <a:blip r:embed="rId1"/>
          <a:stretch/>
        </p:blipFill>
        <p:spPr>
          <a:xfrm>
            <a:off x="123840" y="1733400"/>
            <a:ext cx="8896320" cy="339120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8002"/>
          <p:cNvSpPr/>
          <p:nvPr/>
        </p:nvSpPr>
        <p:spPr>
          <a:xfrm>
            <a:off x="8326440" y="3279600"/>
            <a:ext cx="3589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29025" descr=""/>
          <p:cNvPicPr/>
          <p:nvPr/>
        </p:nvPicPr>
        <p:blipFill>
          <a:blip r:embed="rId1"/>
          <a:stretch/>
        </p:blipFill>
        <p:spPr>
          <a:xfrm>
            <a:off x="152280" y="1795320"/>
            <a:ext cx="8839440" cy="326736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29026"/>
          <p:cNvSpPr/>
          <p:nvPr/>
        </p:nvSpPr>
        <p:spPr>
          <a:xfrm>
            <a:off x="8335800" y="2784600"/>
            <a:ext cx="3589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30049" descr=""/>
          <p:cNvPicPr/>
          <p:nvPr/>
        </p:nvPicPr>
        <p:blipFill>
          <a:blip r:embed="rId1"/>
          <a:stretch/>
        </p:blipFill>
        <p:spPr>
          <a:xfrm>
            <a:off x="90360" y="1038240"/>
            <a:ext cx="8963280" cy="478152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30050"/>
          <p:cNvSpPr/>
          <p:nvPr/>
        </p:nvSpPr>
        <p:spPr>
          <a:xfrm>
            <a:off x="5421240" y="1098720"/>
            <a:ext cx="3589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30051"/>
          <p:cNvSpPr/>
          <p:nvPr/>
        </p:nvSpPr>
        <p:spPr>
          <a:xfrm>
            <a:off x="8342280" y="4457880"/>
            <a:ext cx="3589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24:02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